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BAD9F-ACCA-49FE-9B1D-261F348EE2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A369-E5DB-4F80-B5FE-1BC8F875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BD65C-B7B2-4851-9A7F-E2CEFA59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BC0F5-EE85-468E-A036-E1FE84D83E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3706-7DBB-4F27-94C5-83678FDE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891DA-E7E2-44C9-BF9A-7986FC52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EF8F1-CC65-497B-9F1C-2B532388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281A-C585-421D-9AB8-A596FE60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2652C-8D9C-4BDC-8601-EDA650CF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09C95-AE94-407D-8E46-D096AD92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29283-BACA-4652-B9E0-6576F11B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8FE0-2D7E-44DA-B3F3-B0FA3A01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05BE-12BD-4544-8751-0C0129B87AF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一节    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16720" y="5300640"/>
            <a:ext cx="1727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5626080" y="3141720"/>
            <a:ext cx="3517920" cy="371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cnsrvplus"/>
          <p:cNvPicPr/>
          <p:nvPr/>
        </p:nvPicPr>
        <p:blipFill>
          <a:blip r:embed="rId2"/>
          <a:stretch/>
        </p:blipFill>
        <p:spPr>
          <a:xfrm>
            <a:off x="0" y="0"/>
            <a:ext cx="4067280" cy="25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bhrprosthesis"/>
          <p:cNvPicPr/>
          <p:nvPr/>
        </p:nvPicPr>
        <p:blipFill>
          <a:blip r:embed="rId3"/>
          <a:stretch/>
        </p:blipFill>
        <p:spPr>
          <a:xfrm>
            <a:off x="0" y="3141720"/>
            <a:ext cx="3382920" cy="371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Durom-Hip-Resurfacing2"/>
          <p:cNvPicPr/>
          <p:nvPr/>
        </p:nvPicPr>
        <p:blipFill>
          <a:blip r:embed="rId4"/>
          <a:stretch/>
        </p:blipFill>
        <p:spPr>
          <a:xfrm>
            <a:off x="5292720" y="0"/>
            <a:ext cx="3851280" cy="2511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3203640" y="247968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表面髋假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除继续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的运动训练外，逐渐增加训练难度，主要练习转移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起坐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长坐位至床旁坐位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翻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坐站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渐进性肌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负重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为主，如起床、转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肌力训练：进一步增加肌力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内不强调仰卧直腿抬高练习，该动作可产生相当于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倍的外力作用于髋关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练习：行走速度、耐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梯、斜坡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，如洗澡、如厕、乘车等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后可适当开始散步、游泳等活动。注意坐位时不要交叉双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制订随访时间及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进行第一次随访，复查髋关节的正侧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及体检，提出下一步的康复计划。康复重点是提高肌肉的整体力量，指导患者恢复日常活动能力。对髋关节某些活动仍受限者，应加强针对性的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第二次随访时间为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。评定内容：①肌力恢复是否正常；②能否站立行走（无需支具辅助），无跛行、疼痛；③关节活动度能否满足日常生活需要。此阶段康复重点是提高肌耐力，如侧卧位髋关节外展和俯卧伸髋练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一般情况是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，再以后可半年至一年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膝关节置换术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total knee replacement, TKR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用于严重的膝关节疼痛、畸形和日常生活活动严重障碍，经过保守治疗无效或效果不显著的病例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$S`4602Y9O@)%[Y}SY14EZ4"/>
          <p:cNvPicPr/>
          <p:nvPr/>
        </p:nvPicPr>
        <p:blipFill>
          <a:blip r:embed="rId1"/>
          <a:stretch/>
        </p:blipFill>
        <p:spPr>
          <a:xfrm>
            <a:off x="1116000" y="1052640"/>
            <a:ext cx="3029040" cy="3952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2556000" y="558972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非骨水泥固定型膝关节假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8" descr="%TV01ODP8LESP[~KQGZ$N{1"/>
          <p:cNvPicPr/>
          <p:nvPr/>
        </p:nvPicPr>
        <p:blipFill>
          <a:blip r:embed="rId2"/>
          <a:stretch/>
        </p:blipFill>
        <p:spPr>
          <a:xfrm>
            <a:off x="4643280" y="1052640"/>
            <a:ext cx="3295800" cy="40669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>
            <a:hlinkClick r:id="rId3" action="ppaction://hlinksldjump"/>
          </p:cNvPr>
          <p:cNvSpPr/>
          <p:nvPr/>
        </p:nvSpPr>
        <p:spPr>
          <a:xfrm>
            <a:off x="738036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8895" y="3837"/>
                </a:moveTo>
                <a:lnTo>
                  <a:pt x="21471" y="6448"/>
                </a:ln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lnTo>
                  <a:pt x="25858" y="10800"/>
                </a:lnTo>
                <a:lnTo>
                  <a:pt x="24204" y="10800"/>
                </a:lnTo>
                <a:lnTo>
                  <a:pt x="24204" y="17989"/>
                </a:lnTo>
                <a:lnTo>
                  <a:pt x="13586" y="17989"/>
                </a:lnTo>
                <a:lnTo>
                  <a:pt x="13586" y="10800"/>
                </a:lnTo>
                <a:lnTo>
                  <a:pt x="11932" y="10800"/>
                </a:lnTo>
                <a:close/>
              </a:path>
              <a:path fill="darkenLess" w="37790" h="21600">
                <a:moveTo>
                  <a:pt x="21471" y="6448"/>
                </a:move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close/>
              </a:path>
              <a:path fill="darkenLess" w="37790" h="21600">
                <a:moveTo>
                  <a:pt x="17972" y="14299"/>
                </a:moveTo>
                <a:lnTo>
                  <a:pt x="19818" y="14299"/>
                </a:lnTo>
                <a:lnTo>
                  <a:pt x="19818" y="17989"/>
                </a:lnTo>
                <a:lnTo>
                  <a:pt x="24204" y="17989"/>
                </a:lnTo>
                <a:lnTo>
                  <a:pt x="24204" y="10800"/>
                </a:lnTo>
                <a:lnTo>
                  <a:pt x="13586" y="10800"/>
                </a:lnTo>
                <a:lnTo>
                  <a:pt x="13586" y="17989"/>
                </a:lnTo>
                <a:lnTo>
                  <a:pt x="17972" y="17989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00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卧床时体位摆放：应保持膝关节伸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肿止痛：脉冲电疗、冰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踝部、足趾的主动活动。麻醉清醒后即可开始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∼2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、臀肌的等长收缩。预防肌肉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每天增加关节活动度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关节主动活动，曲伸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训练：直腿抬高、桥式运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床上活动练习：翻身，坐起，移动到床边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每天增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站立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大膝关节曲伸练习力度，部分负重行走训练（四脚拐→肘拐→手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渐进性肌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梯、坡度行走（先训练三向阶梯，后日常行走楼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腘绳肌牵伸，防止屈曲挛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将已磨损破坏的关节面切除，植入人工关节，替代病伤关节，使其恢复关节功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康复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除关节疼痛、无力，恢复关节功能，能够达到生活自理、活动自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肌力，步态练习，行走速度、耐力、楼梯、坡度练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牵伸练习：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膝关节屈曲应达到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如果有膝关节屈曲或伸展障碍，可以开始对膝关节进行屈曲和伸展的牵伸练习。牵伸练习可以应用患者自身体重、治疗师或外界的力量。在关节可活动范围内，先主动后被动活动关节到受限处。伸展时，固定关节近端，牵伸关节远端。牵伸不可强力使关节超过正常活动范围。每次牵伸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秒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组，每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澡、如厕、乘车等，如需要可进行水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出院宣教。膝关节在平地行走时承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—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体重，快速行走时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上下楼时分别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并且张应力和剪切力上下楼时明显活跃。故膝关节置换术后助行器要长时间使用。使用单手杖或单腋拐时，助步器先行，患腿跟上，健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。使用双腋拐时，拐与患肢同步，与健侧交替，上楼时健肢先上，下楼时患肢先下 。能有效保护膝关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前评定：应包括全身整体状况以及单项的康复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肌力：确定患肢肌萎缩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度：各关节，尤其是手术关节的关节活动度，确定有无关节挛缩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步态：确定步态类型，是否有跛行，是否需要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确定手术肢体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影像学检查：了解手术关节有无畸形、增生、对线等影像学的改变，作为手术参考的重要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可对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的住院患者，以及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和半年进行评定。术后的评定也包括全身整体状况以及单项的康复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全身整体状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伤口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活动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肌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活动及转移能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步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态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关节置换术后的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：关节置换术后，由于手术等创伤较大，出现较为剧烈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：由于术后肿胀、创伤大、循环障碍、疼痛等原因导致活动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受限：由于严重的疼痛，造成患者日常生活活动能力的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常见并发症及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深静脉血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异位骨化：常发生在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内，高发病种有活动期强直性脊柱炎和类风湿性关节炎、短期内迅速进展的骨性关节炎和特发性骨骼肥厚症。对这些患者进行康复锻炼时应加以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位摆放：应避免：①髋屈曲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髋关节未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前不能坐起；②下肢内收超过身体中线；③伸髋外旋；④屈髋内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①可采用冰疗，减少渗出，减轻术后肿胀，并减轻疼痛。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即可使用冰袋，置于手术关节周围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；②脉冲短波、超短波治疗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∼1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消肿止痛；③肢体气压治疗，以促进手术侧下肢血液回流，预防深静脉血栓。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踝 “泵”练习，踝、足和趾的主动活动，踝关节最大限度曲伸活动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通过呼吸训练、预防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辅助患肢呈外展位。辅助髋、膝关节屈曲、伸展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肢肌肉等长收缩练习，包括臀大肌、臀中肌、股四头肌、股二头肌、腓肠肌的等长收缩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：拔除负压引流管后进行患肢持续性被动活动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ntinuous passive motion,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，髋关节被动活动范围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106-0605_IMG"/>
          <p:cNvPicPr/>
          <p:nvPr/>
        </p:nvPicPr>
        <p:blipFill>
          <a:blip r:embed="rId1"/>
          <a:stretch/>
        </p:blipFill>
        <p:spPr>
          <a:xfrm>
            <a:off x="617400" y="2179800"/>
            <a:ext cx="3990960" cy="3081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4" descr="106-0606_IMG"/>
          <p:cNvPicPr/>
          <p:nvPr/>
        </p:nvPicPr>
        <p:blipFill>
          <a:blip r:embed="rId2"/>
          <a:stretch/>
        </p:blipFill>
        <p:spPr>
          <a:xfrm>
            <a:off x="4795920" y="1592280"/>
            <a:ext cx="329076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5:46:53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